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853306-FFD6-4CB3-AE97-8B0A5C81820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E6F14F3-27C5-4D42-A150-977AA63A2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9A3D23-4367-44EC-A980-FA0CF4174C5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CC09BA4-CDF9-433A-B9DB-E088AEA7E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F8BF58-8268-494A-882D-C2E770EFCD16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A65486-A0E3-49AC-AFA1-D8C2B1408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0682D3-DBA1-447E-AABA-E74EA51F81D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5EC1DF-477D-470E-BE66-95A77AB27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A17DD9-E0FB-47AE-A8CB-CC07558544A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7C9381-20BA-4690-95B9-C395A5488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2A04A4-DD6F-463C-9821-49B3724044D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D843F7-B4FE-45A5-993F-B3D71CE37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73AABA-F2E4-46A2-AC53-70C76C84708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157EC9-9A22-412F-8196-3C15EA564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11598ED-D021-4871-B5F8-89C6B227A06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4EA4D3-EBAB-4321-BD32-2748E5926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8E2732-4C14-4C5C-AD1C-285F0F7243C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6F7074-C15B-4CB9-A146-2C2AA7D43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1E4405-FAE5-41C0-B7BB-8B04CC7D193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0AAD93-CBEE-403E-9A02-8F7C77C6D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FD3AB0-B888-45D1-8860-FEDDFB576D7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347ED9-78D2-4ED3-810E-AA63493FD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B0DC13-6054-4596-B253-D991ECDD9BA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57E894-A7AB-48EB-86FF-A1FE4A2B1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28C8CB-3E4D-4DBD-A585-744AC3D990A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A9AD92-F764-4356-9FDD-7CE87711B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B22382-0AD3-4BAC-972E-E5C13A86012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F3C284-FE9F-4CB4-8EFA-4721EDBFC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9DDE79-2840-4474-B997-089985CAACB2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F1752B-F214-4163-B548-C4EFD8B11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38A261-B6EF-4644-9C14-EF919FB91EA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271C517-1F1C-4EC5-B832-77DF4EEA4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2CBAEE-837E-4B0E-8D62-75DFE5508896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945C98-81EB-47D7-ADC3-4328DB399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80D5DD-B45F-42A5-9DFA-556CBA2DCAC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11508A-D03E-4C23-8BFD-D54173A24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28AC16-76D0-4EA6-AF55-B8D6010D305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7A95A9-9A5E-4DB0-B991-DAC75A8FB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E99817-C774-4C31-B0B8-8BAAA2BF1D9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496C8E-398E-4C04-B738-2D0CE14A3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5C0692-67B6-49FB-90E8-ED0B281D0306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ED82E3-10E3-43AB-967A-C1C5182D3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481ED6-A9D2-4331-ADD6-C97818A29F2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E95464-846F-4305-B3BE-9241A7683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ACF035-9BF6-4096-9207-A7824CECCF3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DAFFCE-FE97-4048-86CE-A617DBE10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4015593-AB43-4787-921B-2259B710068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620C43-3A4F-48E3-9208-C44A8AD16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ADD32F-C482-4F16-BA06-FF8330E6CF4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8684A6A-2251-4838-A6C8-515E0E79D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FBF057-71ED-4CB0-9338-4C93C2CCAC0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0ABC65-6823-40BB-AA76-78EE047BE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36D246-7383-42DC-BFA0-B230FD62426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A5E732-5E55-44D0-B5FA-230A4544C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D6449B-8F27-4087-A6AB-F390D0F79B6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B2C3CB-7637-4837-8EEA-E9E6FCE87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DBFBB7-A723-48AF-AAF6-FF12707D35B6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2FAF8A-4BF6-4177-9F05-C0C962737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F46E6A-3403-4C57-BCCC-AFDE24CB935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6462A8-C631-4F9B-BA29-D174404B5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3F16F4-E6D2-4E6A-AD27-C8D67EC4D35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C88F6C-E737-4A5D-8E46-DEF4C03F6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D0FE39C-9AF0-465F-A8E1-BDA0FFA52DA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7A9A57-A499-4BD0-8E2D-C9F6AD02D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69E08B-3A7B-47DC-822C-0D9268E00E4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074F0A-0093-450A-850D-5B19E614A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79554A-A0A3-4CC5-AE8C-1985307E3AE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AA8A94-FD94-4905-89E2-0B163B825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B9FC1B-9B66-40CB-B32F-6A11A5C39DD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F22B7B-7623-4752-A7EB-697C21DFF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D78FAB7-DB65-485C-865B-E685E613BF8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03088E-3623-4F66-9159-35ACCF578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1813C4F-7F1B-41D6-8877-2B06D8FCA3D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AE9B81-4F28-48DC-B2FF-2D3DD16D2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A567C5-43CA-4D0C-B2F4-F5AD4DBCDE8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63C49B3-9D7A-4083-B686-4A2A8E8F5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Radiation – 3/15/04</a:t>
            </a:r>
            <a:endParaRPr b="0" lang="en-US" sz="1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0" y="6603840"/>
            <a:ext cx="243828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Toxicology</a:t>
            </a:r>
            <a:endParaRPr b="0" lang="en-US" sz="1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6" name="Picture 15" descr="C:\Documents and Settings\steveg\My Documents\My Documents\A Small Dose of Tox\SmDose Tox Web Site\Devons web site smds\spoon01.wmf"/>
          <p:cNvPicPr/>
          <p:nvPr/>
        </p:nvPicPr>
        <p:blipFill>
          <a:blip r:embed="rId2"/>
          <a:stretch/>
        </p:blipFill>
        <p:spPr>
          <a:xfrm>
            <a:off x="0" y="6608880"/>
            <a:ext cx="53352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5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" name="Line 2056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Text Box 2059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Radiation – 3/15/04</a:t>
            </a:r>
            <a:endParaRPr b="0" lang="en-US" sz="1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91" name="Freeform 11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8960"/>
            <a:ext cx="74678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n Introduction To The Health Effects of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87840" y="77760"/>
            <a:ext cx="73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95" name="Object 1024"/>
          <p:cNvGraphicFramePr/>
          <p:nvPr/>
        </p:nvGraphicFramePr>
        <p:xfrm>
          <a:off x="0" y="5030640"/>
          <a:ext cx="182736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30640"/>
                    <a:ext cx="182736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117" name="Group 222"/>
          <p:cNvGrpSpPr/>
          <p:nvPr/>
        </p:nvGrpSpPr>
        <p:grpSpPr>
          <a:xfrm>
            <a:off x="235080" y="1600200"/>
            <a:ext cx="8777160" cy="3646080"/>
            <a:chOff x="235080" y="1600200"/>
            <a:chExt cx="8777160" cy="3646080"/>
          </a:xfrm>
        </p:grpSpPr>
        <p:sp>
          <p:nvSpPr>
            <p:cNvPr id="118" name="Rectangle 4"/>
            <p:cNvSpPr/>
            <p:nvPr/>
          </p:nvSpPr>
          <p:spPr>
            <a:xfrm>
              <a:off x="88920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19" name="Rectangle 5"/>
            <p:cNvSpPr/>
            <p:nvPr/>
          </p:nvSpPr>
          <p:spPr>
            <a:xfrm>
              <a:off x="1054440" y="371304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15652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729080" y="371304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2402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2403720" y="371304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96892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13380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364356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80844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431964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448308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49942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515772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5838120" y="374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637560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653904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705024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6" name="Rectangle 22"/>
            <p:cNvSpPr/>
            <p:nvPr/>
          </p:nvSpPr>
          <p:spPr>
            <a:xfrm>
              <a:off x="721512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7" name="Rectangle 23"/>
            <p:cNvSpPr/>
            <p:nvPr/>
          </p:nvSpPr>
          <p:spPr>
            <a:xfrm>
              <a:off x="77248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88976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9" name="Rectangle 25"/>
            <p:cNvSpPr/>
            <p:nvPr/>
          </p:nvSpPr>
          <p:spPr>
            <a:xfrm>
              <a:off x="839952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0" name="Rectangle 26"/>
            <p:cNvSpPr/>
            <p:nvPr/>
          </p:nvSpPr>
          <p:spPr>
            <a:xfrm>
              <a:off x="856440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3627720" y="3924360"/>
              <a:ext cx="248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avelength in Meters</a:t>
              </a:r>
              <a:endParaRPr b="0" lang="en-US" sz="19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58428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748080" y="4578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4" name="Rectangle 30"/>
            <p:cNvSpPr/>
            <p:nvPr/>
          </p:nvSpPr>
          <p:spPr>
            <a:xfrm>
              <a:off x="131292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5" name="Rectangle 31"/>
            <p:cNvSpPr/>
            <p:nvPr/>
          </p:nvSpPr>
          <p:spPr>
            <a:xfrm>
              <a:off x="147780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6" name="Rectangle 32"/>
            <p:cNvSpPr/>
            <p:nvPr/>
          </p:nvSpPr>
          <p:spPr>
            <a:xfrm>
              <a:off x="198936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7" name="Rectangle 33"/>
            <p:cNvSpPr/>
            <p:nvPr/>
          </p:nvSpPr>
          <p:spPr>
            <a:xfrm>
              <a:off x="215280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8" name="Rectangle 34"/>
            <p:cNvSpPr/>
            <p:nvPr/>
          </p:nvSpPr>
          <p:spPr>
            <a:xfrm>
              <a:off x="266400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282744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333864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350208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3812400" y="4606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3" name="Rectangle 39"/>
            <p:cNvSpPr/>
            <p:nvPr/>
          </p:nvSpPr>
          <p:spPr>
            <a:xfrm>
              <a:off x="431964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4" name="Rectangle 40"/>
            <p:cNvSpPr/>
            <p:nvPr/>
          </p:nvSpPr>
          <p:spPr>
            <a:xfrm>
              <a:off x="448308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5" name="Rectangle 41"/>
            <p:cNvSpPr/>
            <p:nvPr/>
          </p:nvSpPr>
          <p:spPr>
            <a:xfrm>
              <a:off x="499428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6" name="Rectangle 42"/>
            <p:cNvSpPr/>
            <p:nvPr/>
          </p:nvSpPr>
          <p:spPr>
            <a:xfrm>
              <a:off x="515772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7" name="Rectangle 43"/>
            <p:cNvSpPr/>
            <p:nvPr/>
          </p:nvSpPr>
          <p:spPr>
            <a:xfrm>
              <a:off x="566928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8" name="Rectangle 44"/>
            <p:cNvSpPr/>
            <p:nvPr/>
          </p:nvSpPr>
          <p:spPr>
            <a:xfrm>
              <a:off x="583236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9" name="Rectangle 45"/>
            <p:cNvSpPr/>
            <p:nvPr/>
          </p:nvSpPr>
          <p:spPr>
            <a:xfrm>
              <a:off x="634392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0" name="Rectangle 46"/>
            <p:cNvSpPr/>
            <p:nvPr/>
          </p:nvSpPr>
          <p:spPr>
            <a:xfrm>
              <a:off x="650700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1" name="Rectangle 47"/>
            <p:cNvSpPr/>
            <p:nvPr/>
          </p:nvSpPr>
          <p:spPr>
            <a:xfrm>
              <a:off x="696456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2" name="Rectangle 48"/>
            <p:cNvSpPr/>
            <p:nvPr/>
          </p:nvSpPr>
          <p:spPr>
            <a:xfrm>
              <a:off x="7128360" y="457848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3" name="Rectangle 49"/>
            <p:cNvSpPr/>
            <p:nvPr/>
          </p:nvSpPr>
          <p:spPr>
            <a:xfrm>
              <a:off x="763920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4" name="Rectangle 50"/>
            <p:cNvSpPr/>
            <p:nvPr/>
          </p:nvSpPr>
          <p:spPr>
            <a:xfrm>
              <a:off x="7803000" y="457848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5" name="Rectangle 51"/>
            <p:cNvSpPr/>
            <p:nvPr/>
          </p:nvSpPr>
          <p:spPr>
            <a:xfrm>
              <a:off x="831384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6" name="Rectangle 52"/>
            <p:cNvSpPr/>
            <p:nvPr/>
          </p:nvSpPr>
          <p:spPr>
            <a:xfrm>
              <a:off x="8477640" y="457848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7" name="Rectangle 53"/>
            <p:cNvSpPr/>
            <p:nvPr/>
          </p:nvSpPr>
          <p:spPr>
            <a:xfrm>
              <a:off x="54612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8" name="Rectangle 54"/>
            <p:cNvSpPr/>
            <p:nvPr/>
          </p:nvSpPr>
          <p:spPr>
            <a:xfrm>
              <a:off x="8715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9" name="Rectangle 55"/>
            <p:cNvSpPr/>
            <p:nvPr/>
          </p:nvSpPr>
          <p:spPr>
            <a:xfrm>
              <a:off x="120960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0" name="Rectangle 56"/>
            <p:cNvSpPr/>
            <p:nvPr/>
          </p:nvSpPr>
          <p:spPr>
            <a:xfrm>
              <a:off x="154620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18842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2" name="Rectangle 58"/>
            <p:cNvSpPr/>
            <p:nvPr/>
          </p:nvSpPr>
          <p:spPr>
            <a:xfrm>
              <a:off x="22208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3" name="Rectangle 59"/>
            <p:cNvSpPr/>
            <p:nvPr/>
          </p:nvSpPr>
          <p:spPr>
            <a:xfrm>
              <a:off x="255888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4" name="Rectangle 60"/>
            <p:cNvSpPr/>
            <p:nvPr/>
          </p:nvSpPr>
          <p:spPr>
            <a:xfrm>
              <a:off x="289728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5" name="Rectangle 61"/>
            <p:cNvSpPr/>
            <p:nvPr/>
          </p:nvSpPr>
          <p:spPr>
            <a:xfrm>
              <a:off x="323388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6" name="Rectangle 62"/>
            <p:cNvSpPr/>
            <p:nvPr/>
          </p:nvSpPr>
          <p:spPr>
            <a:xfrm>
              <a:off x="357192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7" name="Rectangle 63"/>
            <p:cNvSpPr/>
            <p:nvPr/>
          </p:nvSpPr>
          <p:spPr>
            <a:xfrm>
              <a:off x="390852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8" name="Rectangle 64"/>
            <p:cNvSpPr/>
            <p:nvPr/>
          </p:nvSpPr>
          <p:spPr>
            <a:xfrm>
              <a:off x="42465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9" name="Rectangle 65"/>
            <p:cNvSpPr/>
            <p:nvPr/>
          </p:nvSpPr>
          <p:spPr>
            <a:xfrm>
              <a:off x="45831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0" name="Rectangle 66"/>
            <p:cNvSpPr/>
            <p:nvPr/>
          </p:nvSpPr>
          <p:spPr>
            <a:xfrm>
              <a:off x="492120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525924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2" name="Rectangle 68"/>
            <p:cNvSpPr/>
            <p:nvPr/>
          </p:nvSpPr>
          <p:spPr>
            <a:xfrm>
              <a:off x="55958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3" name="Rectangle 69"/>
            <p:cNvSpPr/>
            <p:nvPr/>
          </p:nvSpPr>
          <p:spPr>
            <a:xfrm>
              <a:off x="593424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627048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660888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694548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728352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762156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79581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829620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863280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2" name="Rectangle 78"/>
            <p:cNvSpPr/>
            <p:nvPr/>
          </p:nvSpPr>
          <p:spPr>
            <a:xfrm>
              <a:off x="89708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235080" y="3701880"/>
              <a:ext cx="87645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4" name="Rectangle 80"/>
            <p:cNvSpPr/>
            <p:nvPr/>
          </p:nvSpPr>
          <p:spPr>
            <a:xfrm>
              <a:off x="235080" y="4567320"/>
              <a:ext cx="8751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195" name="Group 81"/>
            <p:cNvGrpSpPr/>
            <p:nvPr/>
          </p:nvGrpSpPr>
          <p:grpSpPr>
            <a:xfrm>
              <a:off x="7732800" y="3276720"/>
              <a:ext cx="1015920" cy="118800"/>
              <a:chOff x="7732800" y="3276720"/>
              <a:chExt cx="1015920" cy="118800"/>
            </a:xfrm>
          </p:grpSpPr>
          <p:sp>
            <p:nvSpPr>
              <p:cNvPr id="196" name="Line 82"/>
              <p:cNvSpPr/>
              <p:nvPr/>
            </p:nvSpPr>
            <p:spPr>
              <a:xfrm>
                <a:off x="7790040" y="3333600"/>
                <a:ext cx="89676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97" name="Oval 83"/>
              <p:cNvSpPr/>
              <p:nvPr/>
            </p:nvSpPr>
            <p:spPr>
              <a:xfrm>
                <a:off x="7732800" y="3276720"/>
                <a:ext cx="11880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98" name="Oval 84"/>
              <p:cNvSpPr/>
              <p:nvPr/>
            </p:nvSpPr>
            <p:spPr>
              <a:xfrm>
                <a:off x="8628120" y="3276720"/>
                <a:ext cx="12060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5"/>
            <p:cNvGrpSpPr/>
            <p:nvPr/>
          </p:nvGrpSpPr>
          <p:grpSpPr>
            <a:xfrm>
              <a:off x="5486400" y="3094200"/>
              <a:ext cx="2389320" cy="120600"/>
              <a:chOff x="5486400" y="3094200"/>
              <a:chExt cx="2389320" cy="120600"/>
            </a:xfrm>
          </p:grpSpPr>
          <p:sp>
            <p:nvSpPr>
              <p:cNvPr id="200" name="Line 86"/>
              <p:cNvSpPr/>
              <p:nvPr/>
            </p:nvSpPr>
            <p:spPr>
              <a:xfrm>
                <a:off x="5545080" y="3152880"/>
                <a:ext cx="226872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1" name="Oval 87"/>
              <p:cNvSpPr/>
              <p:nvPr/>
            </p:nvSpPr>
            <p:spPr>
              <a:xfrm>
                <a:off x="5486400" y="309420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2" name="Oval 88"/>
              <p:cNvSpPr/>
              <p:nvPr/>
            </p:nvSpPr>
            <p:spPr>
              <a:xfrm>
                <a:off x="7754760" y="3094200"/>
                <a:ext cx="1209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03" name="Rectangle 89"/>
            <p:cNvSpPr/>
            <p:nvPr/>
          </p:nvSpPr>
          <p:spPr>
            <a:xfrm>
              <a:off x="6253200" y="2917800"/>
              <a:ext cx="895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04" name="Rectangle 90"/>
            <p:cNvSpPr/>
            <p:nvPr/>
          </p:nvSpPr>
          <p:spPr>
            <a:xfrm>
              <a:off x="6291720" y="29368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roadcast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05" name="Group 91"/>
            <p:cNvGrpSpPr/>
            <p:nvPr/>
          </p:nvGrpSpPr>
          <p:grpSpPr>
            <a:xfrm>
              <a:off x="6558120" y="2827440"/>
              <a:ext cx="385560" cy="120600"/>
              <a:chOff x="6558120" y="2827440"/>
              <a:chExt cx="385560" cy="120600"/>
            </a:xfrm>
          </p:grpSpPr>
          <p:sp>
            <p:nvSpPr>
              <p:cNvPr id="206" name="Line 92"/>
              <p:cNvSpPr/>
              <p:nvPr/>
            </p:nvSpPr>
            <p:spPr>
              <a:xfrm>
                <a:off x="6615000" y="2886120"/>
                <a:ext cx="2667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7" name="Oval 93"/>
              <p:cNvSpPr/>
              <p:nvPr/>
            </p:nvSpPr>
            <p:spPr>
              <a:xfrm>
                <a:off x="6558120" y="2827440"/>
                <a:ext cx="1188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8" name="Oval 94"/>
              <p:cNvSpPr/>
              <p:nvPr/>
            </p:nvSpPr>
            <p:spPr>
              <a:xfrm>
                <a:off x="6824520" y="2827440"/>
                <a:ext cx="1191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5"/>
            <p:cNvGrpSpPr/>
            <p:nvPr/>
          </p:nvGrpSpPr>
          <p:grpSpPr>
            <a:xfrm>
              <a:off x="6058080" y="2622600"/>
              <a:ext cx="595080" cy="129960"/>
              <a:chOff x="6058080" y="2622600"/>
              <a:chExt cx="595080" cy="129960"/>
            </a:xfrm>
          </p:grpSpPr>
          <p:sp>
            <p:nvSpPr>
              <p:cNvPr id="210" name="Line 96"/>
              <p:cNvSpPr/>
              <p:nvPr/>
            </p:nvSpPr>
            <p:spPr>
              <a:xfrm>
                <a:off x="6114960" y="2681280"/>
                <a:ext cx="47628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1" name="Oval 97"/>
              <p:cNvSpPr/>
              <p:nvPr/>
            </p:nvSpPr>
            <p:spPr>
              <a:xfrm>
                <a:off x="6058080" y="2622600"/>
                <a:ext cx="118800" cy="1191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2" name="Oval 98"/>
              <p:cNvSpPr/>
              <p:nvPr/>
            </p:nvSpPr>
            <p:spPr>
              <a:xfrm>
                <a:off x="6532560" y="263196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99"/>
            <p:cNvGrpSpPr/>
            <p:nvPr/>
          </p:nvGrpSpPr>
          <p:grpSpPr>
            <a:xfrm>
              <a:off x="5638680" y="2451240"/>
              <a:ext cx="549360" cy="118800"/>
              <a:chOff x="5638680" y="2451240"/>
              <a:chExt cx="549360" cy="118800"/>
            </a:xfrm>
          </p:grpSpPr>
          <p:sp>
            <p:nvSpPr>
              <p:cNvPr id="214" name="Line 100"/>
              <p:cNvSpPr/>
              <p:nvPr/>
            </p:nvSpPr>
            <p:spPr>
              <a:xfrm>
                <a:off x="5697360" y="2509920"/>
                <a:ext cx="4287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5" name="Oval 101"/>
              <p:cNvSpPr/>
              <p:nvPr/>
            </p:nvSpPr>
            <p:spPr>
              <a:xfrm>
                <a:off x="5638680" y="2451240"/>
                <a:ext cx="11916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6" name="Oval 102"/>
              <p:cNvSpPr/>
              <p:nvPr/>
            </p:nvSpPr>
            <p:spPr>
              <a:xfrm>
                <a:off x="6067440" y="2451240"/>
                <a:ext cx="12060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17" name="Rectangle 103"/>
            <p:cNvSpPr/>
            <p:nvPr/>
          </p:nvSpPr>
          <p:spPr>
            <a:xfrm>
              <a:off x="6638760" y="2647800"/>
              <a:ext cx="92556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18" name="Rectangle 104"/>
            <p:cNvSpPr/>
            <p:nvPr/>
          </p:nvSpPr>
          <p:spPr>
            <a:xfrm>
              <a:off x="6677640" y="266868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19" name="Rectangle 105"/>
            <p:cNvSpPr/>
            <p:nvPr/>
          </p:nvSpPr>
          <p:spPr>
            <a:xfrm>
              <a:off x="6219720" y="2487600"/>
              <a:ext cx="3081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0" name="Rectangle 106"/>
            <p:cNvSpPr/>
            <p:nvPr/>
          </p:nvSpPr>
          <p:spPr>
            <a:xfrm>
              <a:off x="6256440" y="250668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1" name="Rectangle 107"/>
            <p:cNvSpPr/>
            <p:nvPr/>
          </p:nvSpPr>
          <p:spPr>
            <a:xfrm>
              <a:off x="5765760" y="2284560"/>
              <a:ext cx="338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2" name="Rectangle 108"/>
            <p:cNvSpPr/>
            <p:nvPr/>
          </p:nvSpPr>
          <p:spPr>
            <a:xfrm>
              <a:off x="5802840" y="2303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M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23" name="Group 109"/>
            <p:cNvGrpSpPr/>
            <p:nvPr/>
          </p:nvGrpSpPr>
          <p:grpSpPr>
            <a:xfrm>
              <a:off x="5100480" y="2173320"/>
              <a:ext cx="876600" cy="120600"/>
              <a:chOff x="5100480" y="2173320"/>
              <a:chExt cx="876600" cy="120600"/>
            </a:xfrm>
          </p:grpSpPr>
          <p:sp>
            <p:nvSpPr>
              <p:cNvPr id="224" name="Line 110"/>
              <p:cNvSpPr/>
              <p:nvPr/>
            </p:nvSpPr>
            <p:spPr>
              <a:xfrm>
                <a:off x="5159520" y="2232000"/>
                <a:ext cx="75708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25" name="Oval 111"/>
              <p:cNvSpPr/>
              <p:nvPr/>
            </p:nvSpPr>
            <p:spPr>
              <a:xfrm>
                <a:off x="5100480" y="2173320"/>
                <a:ext cx="1209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26" name="Oval 112"/>
              <p:cNvSpPr/>
              <p:nvPr/>
            </p:nvSpPr>
            <p:spPr>
              <a:xfrm>
                <a:off x="5857920" y="2173320"/>
                <a:ext cx="1191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27" name="Rectangle 113"/>
            <p:cNvSpPr/>
            <p:nvPr/>
          </p:nvSpPr>
          <p:spPr>
            <a:xfrm>
              <a:off x="5288040" y="2006640"/>
              <a:ext cx="5619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8" name="Rectangle 114"/>
            <p:cNvSpPr/>
            <p:nvPr/>
          </p:nvSpPr>
          <p:spPr>
            <a:xfrm>
              <a:off x="5326560" y="202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29" name="Group 115"/>
            <p:cNvGrpSpPr/>
            <p:nvPr/>
          </p:nvGrpSpPr>
          <p:grpSpPr>
            <a:xfrm>
              <a:off x="3776760" y="2001960"/>
              <a:ext cx="1282680" cy="120600"/>
              <a:chOff x="3776760" y="2001960"/>
              <a:chExt cx="1282680" cy="120600"/>
            </a:xfrm>
          </p:grpSpPr>
          <p:sp>
            <p:nvSpPr>
              <p:cNvPr id="230" name="Line 116"/>
              <p:cNvSpPr/>
              <p:nvPr/>
            </p:nvSpPr>
            <p:spPr>
              <a:xfrm>
                <a:off x="3835440" y="2060640"/>
                <a:ext cx="116208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1" name="Oval 117"/>
              <p:cNvSpPr/>
              <p:nvPr/>
            </p:nvSpPr>
            <p:spPr>
              <a:xfrm>
                <a:off x="3776760" y="2001960"/>
                <a:ext cx="1188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2" name="Oval 118"/>
              <p:cNvSpPr/>
              <p:nvPr/>
            </p:nvSpPr>
            <p:spPr>
              <a:xfrm>
                <a:off x="4938840" y="200196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19"/>
            <p:cNvSpPr/>
            <p:nvPr/>
          </p:nvSpPr>
          <p:spPr>
            <a:xfrm>
              <a:off x="4124160" y="1835280"/>
              <a:ext cx="7081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4" name="Rectangle 120"/>
            <p:cNvSpPr/>
            <p:nvPr/>
          </p:nvSpPr>
          <p:spPr>
            <a:xfrm>
              <a:off x="4161960" y="185580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5" name="Rectangle 121"/>
            <p:cNvSpPr/>
            <p:nvPr/>
          </p:nvSpPr>
          <p:spPr>
            <a:xfrm>
              <a:off x="3903840" y="2049480"/>
              <a:ext cx="423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6" name="Rectangle 122"/>
            <p:cNvSpPr/>
            <p:nvPr/>
          </p:nvSpPr>
          <p:spPr>
            <a:xfrm>
              <a:off x="3936600" y="20685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7" name="Rectangle 123"/>
            <p:cNvSpPr/>
            <p:nvPr/>
          </p:nvSpPr>
          <p:spPr>
            <a:xfrm>
              <a:off x="4649760" y="2049480"/>
              <a:ext cx="325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8" name="Rectangle 124"/>
            <p:cNvSpPr/>
            <p:nvPr/>
          </p:nvSpPr>
          <p:spPr>
            <a:xfrm>
              <a:off x="4683960" y="20685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39" name="Group 125"/>
            <p:cNvGrpSpPr/>
            <p:nvPr/>
          </p:nvGrpSpPr>
          <p:grpSpPr>
            <a:xfrm>
              <a:off x="3637080" y="1830240"/>
              <a:ext cx="269640" cy="120960"/>
              <a:chOff x="3637080" y="1830240"/>
              <a:chExt cx="269640" cy="120960"/>
            </a:xfrm>
          </p:grpSpPr>
          <p:sp>
            <p:nvSpPr>
              <p:cNvPr id="240" name="Line 126"/>
              <p:cNvSpPr/>
              <p:nvPr/>
            </p:nvSpPr>
            <p:spPr>
              <a:xfrm>
                <a:off x="3695760" y="1889280"/>
                <a:ext cx="149040" cy="144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1" name="Oval 127"/>
              <p:cNvSpPr/>
              <p:nvPr/>
            </p:nvSpPr>
            <p:spPr>
              <a:xfrm>
                <a:off x="3637080" y="1830240"/>
                <a:ext cx="120600" cy="120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2" name="Oval 128"/>
              <p:cNvSpPr/>
              <p:nvPr/>
            </p:nvSpPr>
            <p:spPr>
              <a:xfrm>
                <a:off x="3786120" y="1830240"/>
                <a:ext cx="120600" cy="120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43" name="Rectangle 129"/>
            <p:cNvSpPr/>
            <p:nvPr/>
          </p:nvSpPr>
          <p:spPr>
            <a:xfrm>
              <a:off x="3416400" y="1600200"/>
              <a:ext cx="784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44" name="Rectangle 130"/>
            <p:cNvSpPr/>
            <p:nvPr/>
          </p:nvSpPr>
          <p:spPr>
            <a:xfrm>
              <a:off x="3461040" y="162252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ble</a:t>
              </a:r>
              <a:endParaRPr b="0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45" name="Group 131"/>
            <p:cNvGrpSpPr/>
            <p:nvPr/>
          </p:nvGrpSpPr>
          <p:grpSpPr>
            <a:xfrm>
              <a:off x="2890800" y="2173320"/>
              <a:ext cx="795240" cy="120600"/>
              <a:chOff x="2890800" y="2173320"/>
              <a:chExt cx="795240" cy="120600"/>
            </a:xfrm>
          </p:grpSpPr>
          <p:sp>
            <p:nvSpPr>
              <p:cNvPr id="246" name="Line 132"/>
              <p:cNvSpPr/>
              <p:nvPr/>
            </p:nvSpPr>
            <p:spPr>
              <a:xfrm>
                <a:off x="2949480" y="2232000"/>
                <a:ext cx="67464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7" name="Oval 133"/>
              <p:cNvSpPr/>
              <p:nvPr/>
            </p:nvSpPr>
            <p:spPr>
              <a:xfrm>
                <a:off x="2890800" y="217332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8" name="Oval 134"/>
              <p:cNvSpPr/>
              <p:nvPr/>
            </p:nvSpPr>
            <p:spPr>
              <a:xfrm>
                <a:off x="3565440" y="217332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5"/>
            <p:cNvSpPr/>
            <p:nvPr/>
          </p:nvSpPr>
          <p:spPr>
            <a:xfrm>
              <a:off x="2809800" y="1996920"/>
              <a:ext cx="8971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50" name="Rectangle 136"/>
            <p:cNvSpPr/>
            <p:nvPr/>
          </p:nvSpPr>
          <p:spPr>
            <a:xfrm>
              <a:off x="2848680" y="201600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ltraviolet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51" name="Group 137"/>
            <p:cNvGrpSpPr/>
            <p:nvPr/>
          </p:nvGrpSpPr>
          <p:grpSpPr>
            <a:xfrm>
              <a:off x="1762200" y="2365200"/>
              <a:ext cx="1155600" cy="120960"/>
              <a:chOff x="1762200" y="2365200"/>
              <a:chExt cx="1155600" cy="120960"/>
            </a:xfrm>
          </p:grpSpPr>
          <p:sp>
            <p:nvSpPr>
              <p:cNvPr id="252" name="Line 138"/>
              <p:cNvSpPr/>
              <p:nvPr/>
            </p:nvSpPr>
            <p:spPr>
              <a:xfrm>
                <a:off x="1820880" y="2424240"/>
                <a:ext cx="1035000" cy="1440"/>
              </a:xfrm>
              <a:prstGeom prst="line">
                <a:avLst/>
              </a:prstGeom>
              <a:ln w="176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53" name="Oval 139"/>
              <p:cNvSpPr/>
              <p:nvPr/>
            </p:nvSpPr>
            <p:spPr>
              <a:xfrm>
                <a:off x="1762200" y="2365200"/>
                <a:ext cx="120600" cy="12096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54" name="Oval 140"/>
              <p:cNvSpPr/>
              <p:nvPr/>
            </p:nvSpPr>
            <p:spPr>
              <a:xfrm>
                <a:off x="2797200" y="2365200"/>
                <a:ext cx="120600" cy="12096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41"/>
            <p:cNvSpPr/>
            <p:nvPr/>
          </p:nvSpPr>
          <p:spPr>
            <a:xfrm>
              <a:off x="2100240" y="2200320"/>
              <a:ext cx="6382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56" name="Rectangle 142"/>
            <p:cNvSpPr/>
            <p:nvPr/>
          </p:nvSpPr>
          <p:spPr>
            <a:xfrm>
              <a:off x="2137320" y="22194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X Rays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57" name="Group 143"/>
            <p:cNvGrpSpPr/>
            <p:nvPr/>
          </p:nvGrpSpPr>
          <p:grpSpPr>
            <a:xfrm>
              <a:off x="1122480" y="2730600"/>
              <a:ext cx="911160" cy="118800"/>
              <a:chOff x="1122480" y="2730600"/>
              <a:chExt cx="911160" cy="118800"/>
            </a:xfrm>
          </p:grpSpPr>
          <p:sp>
            <p:nvSpPr>
              <p:cNvPr id="258" name="Line 144"/>
              <p:cNvSpPr/>
              <p:nvPr/>
            </p:nvSpPr>
            <p:spPr>
              <a:xfrm>
                <a:off x="1181160" y="2787480"/>
                <a:ext cx="790560" cy="1800"/>
              </a:xfrm>
              <a:prstGeom prst="line">
                <a:avLst/>
              </a:prstGeom>
              <a:ln w="176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59" name="Oval 145"/>
              <p:cNvSpPr/>
              <p:nvPr/>
            </p:nvSpPr>
            <p:spPr>
              <a:xfrm>
                <a:off x="1122480" y="2730600"/>
                <a:ext cx="120600" cy="1188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60" name="Oval 146"/>
              <p:cNvSpPr/>
              <p:nvPr/>
            </p:nvSpPr>
            <p:spPr>
              <a:xfrm>
                <a:off x="1914480" y="2730600"/>
                <a:ext cx="119160" cy="1188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61" name="Rectangle 147"/>
            <p:cNvSpPr/>
            <p:nvPr/>
          </p:nvSpPr>
          <p:spPr>
            <a:xfrm>
              <a:off x="1054080" y="2543040"/>
              <a:ext cx="11286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62" name="Rectangle 148"/>
            <p:cNvSpPr/>
            <p:nvPr/>
          </p:nvSpPr>
          <p:spPr>
            <a:xfrm>
              <a:off x="1091880" y="2562120"/>
              <a:ext cx="104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amma Rays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63" name="Group 149"/>
            <p:cNvGrpSpPr/>
            <p:nvPr/>
          </p:nvGrpSpPr>
          <p:grpSpPr>
            <a:xfrm>
              <a:off x="681120" y="3094200"/>
              <a:ext cx="549360" cy="120600"/>
              <a:chOff x="681120" y="3094200"/>
              <a:chExt cx="549360" cy="120600"/>
            </a:xfrm>
          </p:grpSpPr>
          <p:sp>
            <p:nvSpPr>
              <p:cNvPr id="264" name="Line 150"/>
              <p:cNvSpPr/>
              <p:nvPr/>
            </p:nvSpPr>
            <p:spPr>
              <a:xfrm>
                <a:off x="739800" y="3152880"/>
                <a:ext cx="428760" cy="1440"/>
              </a:xfrm>
              <a:prstGeom prst="line">
                <a:avLst/>
              </a:prstGeom>
              <a:ln w="176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65" name="Oval 151"/>
              <p:cNvSpPr/>
              <p:nvPr/>
            </p:nvSpPr>
            <p:spPr>
              <a:xfrm>
                <a:off x="681120" y="3094200"/>
                <a:ext cx="120600" cy="1206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66" name="Oval 152"/>
              <p:cNvSpPr/>
              <p:nvPr/>
            </p:nvSpPr>
            <p:spPr>
              <a:xfrm>
                <a:off x="1109520" y="3094200"/>
                <a:ext cx="120960" cy="1206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53"/>
            <p:cNvSpPr/>
            <p:nvPr/>
          </p:nvSpPr>
          <p:spPr>
            <a:xfrm>
              <a:off x="484200" y="2917800"/>
              <a:ext cx="1119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68" name="Rectangle 154"/>
            <p:cNvSpPr/>
            <p:nvPr/>
          </p:nvSpPr>
          <p:spPr>
            <a:xfrm>
              <a:off x="524520" y="293688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smic Rays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69" name="Rectangle 155"/>
            <p:cNvSpPr/>
            <p:nvPr/>
          </p:nvSpPr>
          <p:spPr>
            <a:xfrm>
              <a:off x="7835760" y="2886120"/>
              <a:ext cx="11764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0" name="Rectangle 156"/>
            <p:cNvSpPr/>
            <p:nvPr/>
          </p:nvSpPr>
          <p:spPr>
            <a:xfrm>
              <a:off x="8179200" y="29052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ower 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1" name="Rectangle 157"/>
            <p:cNvSpPr/>
            <p:nvPr/>
          </p:nvSpPr>
          <p:spPr>
            <a:xfrm>
              <a:off x="7899120" y="3112920"/>
              <a:ext cx="1070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2" name="Rectangle 158"/>
            <p:cNvSpPr/>
            <p:nvPr/>
          </p:nvSpPr>
          <p:spPr>
            <a:xfrm>
              <a:off x="681120" y="1643040"/>
              <a:ext cx="1895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3" name="Rectangle 159"/>
            <p:cNvSpPr/>
            <p:nvPr/>
          </p:nvSpPr>
          <p:spPr>
            <a:xfrm>
              <a:off x="728640" y="166356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onizing Radiation</a:t>
              </a:r>
              <a:endParaRPr b="0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4" name="Rectangle 160"/>
            <p:cNvSpPr/>
            <p:nvPr/>
          </p:nvSpPr>
          <p:spPr>
            <a:xfrm>
              <a:off x="6033960" y="1654200"/>
              <a:ext cx="22957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5" name="Rectangle 161"/>
            <p:cNvSpPr/>
            <p:nvPr/>
          </p:nvSpPr>
          <p:spPr>
            <a:xfrm>
              <a:off x="6082200" y="1674720"/>
              <a:ext cx="213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ionizing Radiation</a:t>
              </a:r>
              <a:endParaRPr b="0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6" name="Line 162"/>
            <p:cNvSpPr/>
            <p:nvPr/>
          </p:nvSpPr>
          <p:spPr>
            <a:xfrm>
              <a:off x="7160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7" name="Line 163"/>
            <p:cNvSpPr/>
            <p:nvPr/>
          </p:nvSpPr>
          <p:spPr>
            <a:xfrm>
              <a:off x="8794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8" name="Line 164"/>
            <p:cNvSpPr/>
            <p:nvPr/>
          </p:nvSpPr>
          <p:spPr>
            <a:xfrm>
              <a:off x="10288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9" name="Line 165"/>
            <p:cNvSpPr/>
            <p:nvPr/>
          </p:nvSpPr>
          <p:spPr>
            <a:xfrm>
              <a:off x="12034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0" name="Line 166"/>
            <p:cNvSpPr/>
            <p:nvPr/>
          </p:nvSpPr>
          <p:spPr>
            <a:xfrm>
              <a:off x="137952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1" name="Line 167"/>
            <p:cNvSpPr/>
            <p:nvPr/>
          </p:nvSpPr>
          <p:spPr>
            <a:xfrm>
              <a:off x="155412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2" name="Line 168"/>
            <p:cNvSpPr/>
            <p:nvPr/>
          </p:nvSpPr>
          <p:spPr>
            <a:xfrm>
              <a:off x="17035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3" name="Line 169"/>
            <p:cNvSpPr/>
            <p:nvPr/>
          </p:nvSpPr>
          <p:spPr>
            <a:xfrm>
              <a:off x="187956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4" name="Line 170"/>
            <p:cNvSpPr/>
            <p:nvPr/>
          </p:nvSpPr>
          <p:spPr>
            <a:xfrm>
              <a:off x="205416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5" name="Line 171"/>
            <p:cNvSpPr/>
            <p:nvPr/>
          </p:nvSpPr>
          <p:spPr>
            <a:xfrm>
              <a:off x="222876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6" name="Line 172"/>
            <p:cNvSpPr/>
            <p:nvPr/>
          </p:nvSpPr>
          <p:spPr>
            <a:xfrm>
              <a:off x="237816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7" name="Line 173"/>
            <p:cNvSpPr/>
            <p:nvPr/>
          </p:nvSpPr>
          <p:spPr>
            <a:xfrm>
              <a:off x="255420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8" name="Line 174"/>
            <p:cNvSpPr/>
            <p:nvPr/>
          </p:nvSpPr>
          <p:spPr>
            <a:xfrm>
              <a:off x="27288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9" name="Line 175"/>
            <p:cNvSpPr/>
            <p:nvPr/>
          </p:nvSpPr>
          <p:spPr>
            <a:xfrm>
              <a:off x="29034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0" name="Line 176"/>
            <p:cNvSpPr/>
            <p:nvPr/>
          </p:nvSpPr>
          <p:spPr>
            <a:xfrm>
              <a:off x="305424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1" name="Line 177"/>
            <p:cNvSpPr/>
            <p:nvPr/>
          </p:nvSpPr>
          <p:spPr>
            <a:xfrm>
              <a:off x="322884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2" name="Line 178"/>
            <p:cNvSpPr/>
            <p:nvPr/>
          </p:nvSpPr>
          <p:spPr>
            <a:xfrm>
              <a:off x="340344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3" name="Line 179"/>
            <p:cNvSpPr/>
            <p:nvPr/>
          </p:nvSpPr>
          <p:spPr>
            <a:xfrm>
              <a:off x="357840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4" name="Line 180"/>
            <p:cNvSpPr/>
            <p:nvPr/>
          </p:nvSpPr>
          <p:spPr>
            <a:xfrm>
              <a:off x="372888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5" name="Line 181"/>
            <p:cNvSpPr/>
            <p:nvPr/>
          </p:nvSpPr>
          <p:spPr>
            <a:xfrm>
              <a:off x="390384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6" name="Line 182"/>
            <p:cNvSpPr/>
            <p:nvPr/>
          </p:nvSpPr>
          <p:spPr>
            <a:xfrm>
              <a:off x="40784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7" name="Line 183"/>
            <p:cNvSpPr/>
            <p:nvPr/>
          </p:nvSpPr>
          <p:spPr>
            <a:xfrm>
              <a:off x="42530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8" name="Line 184"/>
            <p:cNvSpPr/>
            <p:nvPr/>
          </p:nvSpPr>
          <p:spPr>
            <a:xfrm>
              <a:off x="44038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9" name="Line 185"/>
            <p:cNvSpPr/>
            <p:nvPr/>
          </p:nvSpPr>
          <p:spPr>
            <a:xfrm>
              <a:off x="45784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0" name="Line 186"/>
            <p:cNvSpPr/>
            <p:nvPr/>
          </p:nvSpPr>
          <p:spPr>
            <a:xfrm>
              <a:off x="47530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1" name="Line 187"/>
            <p:cNvSpPr/>
            <p:nvPr/>
          </p:nvSpPr>
          <p:spPr>
            <a:xfrm>
              <a:off x="49276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2" name="Line 188"/>
            <p:cNvSpPr/>
            <p:nvPr/>
          </p:nvSpPr>
          <p:spPr>
            <a:xfrm>
              <a:off x="50785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3" name="Line 189"/>
            <p:cNvSpPr/>
            <p:nvPr/>
          </p:nvSpPr>
          <p:spPr>
            <a:xfrm>
              <a:off x="52531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4" name="Line 190"/>
            <p:cNvSpPr/>
            <p:nvPr/>
          </p:nvSpPr>
          <p:spPr>
            <a:xfrm>
              <a:off x="542772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5" name="Line 191"/>
            <p:cNvSpPr/>
            <p:nvPr/>
          </p:nvSpPr>
          <p:spPr>
            <a:xfrm>
              <a:off x="560376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6" name="Line 192"/>
            <p:cNvSpPr/>
            <p:nvPr/>
          </p:nvSpPr>
          <p:spPr>
            <a:xfrm>
              <a:off x="575316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7" name="Line 193"/>
            <p:cNvSpPr/>
            <p:nvPr/>
          </p:nvSpPr>
          <p:spPr>
            <a:xfrm>
              <a:off x="592776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8" name="Line 194"/>
            <p:cNvSpPr/>
            <p:nvPr/>
          </p:nvSpPr>
          <p:spPr>
            <a:xfrm>
              <a:off x="61038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9" name="Line 195"/>
            <p:cNvSpPr/>
            <p:nvPr/>
          </p:nvSpPr>
          <p:spPr>
            <a:xfrm>
              <a:off x="62784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0" name="Line 196"/>
            <p:cNvSpPr/>
            <p:nvPr/>
          </p:nvSpPr>
          <p:spPr>
            <a:xfrm>
              <a:off x="642780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1" name="Line 197"/>
            <p:cNvSpPr/>
            <p:nvPr/>
          </p:nvSpPr>
          <p:spPr>
            <a:xfrm>
              <a:off x="660240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2" name="Line 198"/>
            <p:cNvSpPr/>
            <p:nvPr/>
          </p:nvSpPr>
          <p:spPr>
            <a:xfrm>
              <a:off x="677880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3" name="Line 199"/>
            <p:cNvSpPr/>
            <p:nvPr/>
          </p:nvSpPr>
          <p:spPr>
            <a:xfrm>
              <a:off x="695340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4" name="Line 200"/>
            <p:cNvSpPr/>
            <p:nvPr/>
          </p:nvSpPr>
          <p:spPr>
            <a:xfrm>
              <a:off x="710244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5" name="Line 201"/>
            <p:cNvSpPr/>
            <p:nvPr/>
          </p:nvSpPr>
          <p:spPr>
            <a:xfrm>
              <a:off x="727884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6" name="Line 202"/>
            <p:cNvSpPr/>
            <p:nvPr/>
          </p:nvSpPr>
          <p:spPr>
            <a:xfrm>
              <a:off x="74534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7" name="Line 203"/>
            <p:cNvSpPr/>
            <p:nvPr/>
          </p:nvSpPr>
          <p:spPr>
            <a:xfrm>
              <a:off x="76280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8" name="Line 204"/>
            <p:cNvSpPr/>
            <p:nvPr/>
          </p:nvSpPr>
          <p:spPr>
            <a:xfrm>
              <a:off x="77788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9" name="Line 205"/>
            <p:cNvSpPr/>
            <p:nvPr/>
          </p:nvSpPr>
          <p:spPr>
            <a:xfrm>
              <a:off x="79534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0" name="Line 206"/>
            <p:cNvSpPr/>
            <p:nvPr/>
          </p:nvSpPr>
          <p:spPr>
            <a:xfrm>
              <a:off x="81280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1" name="Line 207"/>
            <p:cNvSpPr/>
            <p:nvPr/>
          </p:nvSpPr>
          <p:spPr>
            <a:xfrm>
              <a:off x="83026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2" name="Line 208"/>
            <p:cNvSpPr/>
            <p:nvPr/>
          </p:nvSpPr>
          <p:spPr>
            <a:xfrm>
              <a:off x="84535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3" name="Line 209"/>
            <p:cNvSpPr/>
            <p:nvPr/>
          </p:nvSpPr>
          <p:spPr>
            <a:xfrm>
              <a:off x="86281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4" name="Rectangle 210"/>
            <p:cNvSpPr/>
            <p:nvPr/>
          </p:nvSpPr>
          <p:spPr>
            <a:xfrm>
              <a:off x="3089160" y="4897440"/>
              <a:ext cx="2571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5" name="Rectangle 211"/>
            <p:cNvSpPr/>
            <p:nvPr/>
          </p:nvSpPr>
          <p:spPr>
            <a:xfrm>
              <a:off x="3124080" y="4925880"/>
              <a:ext cx="293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Energy - Electron Volts</a:t>
              </a:r>
              <a:endParaRPr b="0" lang="en-US" sz="21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6" name="Rectangle 212"/>
            <p:cNvSpPr/>
            <p:nvPr/>
          </p:nvSpPr>
          <p:spPr>
            <a:xfrm>
              <a:off x="576360" y="4897440"/>
              <a:ext cx="6444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7" name="Rectangle 213"/>
            <p:cNvSpPr/>
            <p:nvPr/>
          </p:nvSpPr>
          <p:spPr>
            <a:xfrm>
              <a:off x="623880" y="491004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High</a:t>
              </a:r>
              <a:endParaRPr b="0" lang="en-US" sz="21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8" name="Rectangle 214"/>
            <p:cNvSpPr/>
            <p:nvPr/>
          </p:nvSpPr>
          <p:spPr>
            <a:xfrm>
              <a:off x="7940520" y="4886280"/>
              <a:ext cx="5986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9" name="Rectangle 215"/>
            <p:cNvSpPr/>
            <p:nvPr/>
          </p:nvSpPr>
          <p:spPr>
            <a:xfrm>
              <a:off x="7988760" y="4910040"/>
              <a:ext cx="53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Low</a:t>
              </a:r>
              <a:endParaRPr b="0" lang="en-US" sz="21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330" name="Group 216"/>
            <p:cNvGrpSpPr/>
            <p:nvPr/>
          </p:nvGrpSpPr>
          <p:grpSpPr>
            <a:xfrm>
              <a:off x="6172200" y="5002200"/>
              <a:ext cx="1698120" cy="142920"/>
              <a:chOff x="6172200" y="5002200"/>
              <a:chExt cx="1698120" cy="142920"/>
            </a:xfrm>
          </p:grpSpPr>
          <p:sp>
            <p:nvSpPr>
              <p:cNvPr id="331" name="Line 217"/>
              <p:cNvSpPr/>
              <p:nvPr/>
            </p:nvSpPr>
            <p:spPr>
              <a:xfrm>
                <a:off x="6172200" y="5072040"/>
                <a:ext cx="1578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332" name="Freeform 218"/>
              <p:cNvSpPr/>
              <p:nvPr/>
            </p:nvSpPr>
            <p:spPr>
              <a:xfrm>
                <a:off x="7748280" y="5002200"/>
                <a:ext cx="122040" cy="142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219"/>
            <p:cNvGrpSpPr/>
            <p:nvPr/>
          </p:nvGrpSpPr>
          <p:grpSpPr>
            <a:xfrm>
              <a:off x="1309680" y="5011560"/>
              <a:ext cx="1733040" cy="142920"/>
              <a:chOff x="1309680" y="5011560"/>
              <a:chExt cx="1733040" cy="142920"/>
            </a:xfrm>
          </p:grpSpPr>
          <p:sp>
            <p:nvSpPr>
              <p:cNvPr id="334" name="Line 220"/>
              <p:cNvSpPr/>
              <p:nvPr/>
            </p:nvSpPr>
            <p:spPr>
              <a:xfrm flipH="1">
                <a:off x="1449000" y="5081400"/>
                <a:ext cx="1593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335" name="Freeform 221"/>
              <p:cNvSpPr/>
              <p:nvPr/>
            </p:nvSpPr>
            <p:spPr>
              <a:xfrm>
                <a:off x="1309680" y="5011560"/>
                <a:ext cx="144360" cy="142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Nonionizing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905120" y="1631880"/>
            <a:ext cx="53337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Source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Ultraviolet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Visible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nfrared radiat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icrowav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o &amp; TV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ower transmi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Nonionizing Examp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0880" y="1295280"/>
            <a:ext cx="8382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Ultraviolet – Black light – induce fluorescence in some material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Vision – very small portion that animals use to process visual information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eat – infrared – a little beyond the red spectru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o waves – beyond infrared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icro wav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ical power transmission – 60 cycles per second with a wave length of 1 to 2 million meter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Ultraviolet - Sourc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609480" y="12366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un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ost harmful UV is absorbed by the atmosphere – depends on altitud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luorescent lamp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ic arc weld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595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Can damage the eye (cornea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Germicidal lamp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ye damage from sun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kin cancer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1760" y="92160"/>
            <a:ext cx="7543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Ultraviolet - Effec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4" name="Line 1027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Text Box 1028"/>
          <p:cNvSpPr/>
          <p:nvPr/>
        </p:nvSpPr>
        <p:spPr>
          <a:xfrm>
            <a:off x="609480" y="130644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 ultraviolet – kills bacterial and other infectious ag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 dose causes - sun burn – increased risk of skin cance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igmentation that results in suntan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untan lotions contain chemicals that absorb UV radi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Reaction in the skin to produce Vitamin D that prevents ricke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trongly absorbed by air – thus the danger of hole in the atmospher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92160"/>
            <a:ext cx="769608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Visible Energ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80880" y="17082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ergy between 400 and 750 n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igh energy – bright light produces of number of adaptive respons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tandards are set for the intensity of light in the work place (measured in candles or lumens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4080"/>
            <a:ext cx="83059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nfrared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9" name="Text Box 1028"/>
          <p:cNvSpPr/>
          <p:nvPr/>
        </p:nvSpPr>
        <p:spPr>
          <a:xfrm>
            <a:off x="380880" y="167652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ergy between 750 nm to 0.3 c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he energy of heat – Heat is the transfer of energy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Can damage – cornea, iris, retina and lens of the eye (glass workers – “glass blower’s cataract”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Microwaves &amp; Radio Wav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80880" y="1676520"/>
            <a:ext cx="838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ergy between 0.1 cm to 1 kilometer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Varity of industrial and home uses for heating and information transfer (radio, TV, mobile phones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duced by molecular vibration in solid bodies or crystal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ealth effects – heating, catarac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Long-term effects being studied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37160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tandard in homes and business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ighest level of exposure from electric-power generation and distribution system (high voltage power lines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edical system – Magnetic imag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cute health effects – shock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Long-term health effects appear to be few but may some data do suggest adverse effec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543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onizing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1295280"/>
            <a:ext cx="83822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Ionization Defined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ation capable for producing ions when interacting with matter – in other words enough energy to remove an electron from an atom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Sources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– x-rays, radioactive material produce alpha, beta, and gamma radiation, cosmic rays from the sun and space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5120" y="2425680"/>
            <a:ext cx="52578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he control of fire for warmth and cooking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ncient Awarenes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onizing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57" name="Group 2071"/>
          <p:cNvGrpSpPr/>
          <p:nvPr/>
        </p:nvGrpSpPr>
        <p:grpSpPr>
          <a:xfrm>
            <a:off x="536040" y="1473120"/>
            <a:ext cx="8533080" cy="4241880"/>
            <a:chOff x="536040" y="1473120"/>
            <a:chExt cx="8533080" cy="4241880"/>
          </a:xfrm>
        </p:grpSpPr>
        <p:sp>
          <p:nvSpPr>
            <p:cNvPr id="358" name="Rectangle 2050"/>
            <p:cNvSpPr/>
            <p:nvPr/>
          </p:nvSpPr>
          <p:spPr>
            <a:xfrm>
              <a:off x="6019920" y="1905120"/>
              <a:ext cx="914400" cy="380988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59" name="Rectangle 2051"/>
            <p:cNvSpPr/>
            <p:nvPr/>
          </p:nvSpPr>
          <p:spPr>
            <a:xfrm>
              <a:off x="3581280" y="1905120"/>
              <a:ext cx="1447920" cy="3352680"/>
            </a:xfrm>
            <a:prstGeom prst="rect">
              <a:avLst/>
            </a:prstGeom>
            <a:solidFill>
              <a:srgbClr val="b25900"/>
            </a:solidFill>
            <a:ln w="190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0" name="Rectangle 2052"/>
            <p:cNvSpPr/>
            <p:nvPr/>
          </p:nvSpPr>
          <p:spPr>
            <a:xfrm>
              <a:off x="1676520" y="1905120"/>
              <a:ext cx="1218960" cy="1752480"/>
            </a:xfrm>
            <a:prstGeom prst="rect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1" name="AutoShape 2055"/>
            <p:cNvSpPr/>
            <p:nvPr/>
          </p:nvSpPr>
          <p:spPr>
            <a:xfrm>
              <a:off x="2286000" y="2209680"/>
              <a:ext cx="457200" cy="45720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2" name="AutoShape 2056"/>
            <p:cNvSpPr/>
            <p:nvPr/>
          </p:nvSpPr>
          <p:spPr>
            <a:xfrm>
              <a:off x="4267080" y="3124080"/>
              <a:ext cx="457200" cy="457200"/>
            </a:xfrm>
            <a:prstGeom prst="flowChartSummingJunction">
              <a:avLst/>
            </a:prstGeom>
            <a:solidFill>
              <a:srgbClr val="0000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3" name="AutoShape 2057"/>
            <p:cNvSpPr/>
            <p:nvPr/>
          </p:nvSpPr>
          <p:spPr>
            <a:xfrm>
              <a:off x="6172200" y="4495680"/>
              <a:ext cx="457200" cy="457200"/>
            </a:xfrm>
            <a:prstGeom prst="flowChartSummingJunction">
              <a:avLst/>
            </a:prstGeom>
            <a:solidFill>
              <a:srgbClr val="ff0000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4" name="Rectangle 2058"/>
            <p:cNvSpPr/>
            <p:nvPr/>
          </p:nvSpPr>
          <p:spPr>
            <a:xfrm>
              <a:off x="609480" y="2362320"/>
              <a:ext cx="16765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5" name="Rectangle 2059"/>
            <p:cNvSpPr/>
            <p:nvPr/>
          </p:nvSpPr>
          <p:spPr>
            <a:xfrm>
              <a:off x="609480" y="3276720"/>
              <a:ext cx="36576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6" name="Rectangle 2060"/>
            <p:cNvSpPr/>
            <p:nvPr/>
          </p:nvSpPr>
          <p:spPr>
            <a:xfrm>
              <a:off x="609480" y="4648320"/>
              <a:ext cx="55627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7" name="Text Box 2061"/>
            <p:cNvSpPr/>
            <p:nvPr/>
          </p:nvSpPr>
          <p:spPr>
            <a:xfrm>
              <a:off x="1789920" y="15238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0" lang="en-US" sz="2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8" name="Text Box 2062"/>
            <p:cNvSpPr/>
            <p:nvPr/>
          </p:nvSpPr>
          <p:spPr>
            <a:xfrm>
              <a:off x="3769560" y="15238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od</a:t>
              </a:r>
              <a:endParaRPr b="0" lang="en-US" sz="2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9" name="Text Box 2063"/>
            <p:cNvSpPr/>
            <p:nvPr/>
          </p:nvSpPr>
          <p:spPr>
            <a:xfrm>
              <a:off x="5794200" y="152388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rete</a:t>
              </a:r>
              <a:endParaRPr b="0" lang="en-US" sz="2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0" name="Text Box 2064"/>
            <p:cNvSpPr/>
            <p:nvPr/>
          </p:nvSpPr>
          <p:spPr>
            <a:xfrm>
              <a:off x="536400" y="1854360"/>
              <a:ext cx="11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Alpha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1" name="Text Box 2065"/>
            <p:cNvSpPr/>
            <p:nvPr/>
          </p:nvSpPr>
          <p:spPr>
            <a:xfrm>
              <a:off x="536040" y="276876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Beta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2" name="Text Box 2066"/>
            <p:cNvSpPr/>
            <p:nvPr/>
          </p:nvSpPr>
          <p:spPr>
            <a:xfrm>
              <a:off x="536040" y="4140360"/>
              <a:ext cx="148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Gamma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3" name="Text Box 2067"/>
            <p:cNvSpPr/>
            <p:nvPr/>
          </p:nvSpPr>
          <p:spPr>
            <a:xfrm>
              <a:off x="7545240" y="1473120"/>
              <a:ext cx="138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Arial"/>
                </a:rPr>
                <a:t>Energy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4" name="Text Box 2068"/>
            <p:cNvSpPr/>
            <p:nvPr/>
          </p:nvSpPr>
          <p:spPr>
            <a:xfrm>
              <a:off x="7546680" y="215892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Low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5" name="Text Box 2069"/>
            <p:cNvSpPr/>
            <p:nvPr/>
          </p:nvSpPr>
          <p:spPr>
            <a:xfrm>
              <a:off x="7547400" y="3073320"/>
              <a:ext cx="15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Medium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6" name="Text Box 2070"/>
            <p:cNvSpPr/>
            <p:nvPr/>
          </p:nvSpPr>
          <p:spPr>
            <a:xfrm>
              <a:off x="7546680" y="444492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High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adioactive Materia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37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ither natural or created in nuclear reactor or accelerato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Radioactive material is unstable and emits energy in order to return to a more stable state (particles or gamma-rays)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alf-life – time for radioactive material to decay by one-half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lpha Partic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1440" cy="488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wo neutrons and two protons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harge of +2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from nucleus of radioactive atom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ransfer energy in very short distances (10 cm in air)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hielded by paper or layer of ski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imary hazard from internal exposur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lpha emitters can accumulate in tissue (bone, kidney, liver, lung, spleen) causing local damage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Beta Partic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848720" cy="43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mall electrically charged particles similar to electrons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harge of -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jected from nuclei of radioactive atom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with various kinetic energie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hielded by wood, body penetration 0.2 to 1.3 cm depending on energy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an cause skin burns or be an internal hazard of ingest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Gamma-ray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47640" y="1676160"/>
            <a:ext cx="7848720" cy="428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lectromagnetic photons or radiation  (identical to x-rays except for source)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from nucleus of radioactive atoms – spontaneous emiss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with kinetic energy related to radioactive sourc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ly penetrating – extensive shielding requir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erious external radiation hazar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X-ray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3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Overlap with gamma-ray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lectromagnetic photons or radiation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oduced from orbiting electrons or free electrons – usually machine produc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oduced when electrons strike a target material inside and x-ray tub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with various energies &amp; wavelength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ly penetrating – extensive shielding requir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xternal radiation hazar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iscovered in 1895 by Roentge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Ionizing Radiation Health Effec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7640" y="1752480"/>
            <a:ext cx="7848720" cy="34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e evolved with a certain level of naturally occurring ionizing radiation from cosmic radiation, radioactive materials in the earth.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e have mechanisms to repair damage.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adiation Uni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91440" cy="455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Exposure – X (coul/kg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(Related to energy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  <a:ea typeface="Times New Roman"/>
              </a:rPr>
              <a:t>Absorbed Dose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– Gray (Gy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(amount of energy absorbed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Equivalent Dose – Sievert (Sv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(makes different sources of radiation equivalent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47640" y="1142640"/>
            <a:ext cx="7848720" cy="49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US National Council on Radiation Protection (NCRP) 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nternational Council on Radiation Protection (ICRP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Occupational Exposure Guideline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00 mSv over 5 years (average 20 mSv/year) with a maximum of 50 mSv in any one yea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General public – back ground about 3 mSv/year – Guideline 1 mSv/yea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ose Response Tissu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189080" y="129528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amples of tissue Sensitivity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95280" y="2209680"/>
          <a:ext cx="647712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41911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Very High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White blood cells (bone marrow)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estinal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eproductive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Optic lens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sophageal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ucous membrane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rain – Glial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ung, kidney, liver, thyroid, pancreatic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ure red blood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uscle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ure bone and cartilage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95360" y="1447920"/>
            <a:ext cx="81532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895 - Wilhem Conrad Roentgen discovered X-rays and in 1901 he received the first Nobel Prize for physics.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903 - Marie Curie and Pierre Curie, along with Henri Becquerel were awarded the Nobel Prize in physics for their contributions to understanding radioactivity, including the properties of uranium.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942 - Enrico Fermi and others started the first sustained nuclear chain reaction in a laboratory beneath the University of Chicago football stadium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945 – Nuclear bombs dropped on Japan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ical Awarenes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ose Response Issu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66680" y="1295280"/>
          <a:ext cx="693432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2666880"/>
                <a:gridCol w="1523880"/>
                <a:gridCol w="12193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ose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Sv)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ffects / organ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ath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one marrow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0-1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-1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one marrow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Week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0-9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0-15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arrhea, fever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 week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&gt;5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eurological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- 4 hr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7"/>
          <p:cNvSpPr/>
          <p:nvPr/>
        </p:nvSpPr>
        <p:spPr>
          <a:xfrm>
            <a:off x="976320" y="1219320"/>
            <a:ext cx="725328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Rate of decay of radioisotop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ow long it takes to lose half their strength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an range from very short to billions of years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arbon – 5730 years, which makes it valuable for dating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27"/>
          <p:cNvSpPr/>
          <p:nvPr/>
        </p:nvSpPr>
        <p:spPr>
          <a:xfrm>
            <a:off x="1181160" y="1523880"/>
            <a:ext cx="678168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duce the spent near the source of radiation. 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rease the distance from the source of radiation.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hieldin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lace shielding material between you and the source of radiation.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ducing Exposur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533520" y="1447920"/>
            <a:ext cx="800100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5960" indent="-34596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Occupational exposure quidlines are 100 mSv in 5 years (average, 20 mSv per year) with a limit of 50 mSv in any single year. 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General public the standard is 1 mSv per year.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(Natural background radiation is approximately 3 mSv/year.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Recommended exposure limits are set by the US National Council on Radiation Protection (NCRP) and world wide by International Council on Radiation Protection (ICRP).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gulatory Statu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7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07" name="Freeform 8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10" name="Picture 6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247840" y="1509840"/>
            <a:ext cx="461016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412" name="Group 8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13" name="Freeform 9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15" name="Rectangle 12"/>
          <p:cNvSpPr/>
          <p:nvPr/>
        </p:nvSpPr>
        <p:spPr>
          <a:xfrm>
            <a:off x="685800" y="152388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National Council on Radiation Protection and Measurements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ttp://www.ncrp.com/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US EPA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(Information about ionizing radiation and contamination)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– http://www.epa.gov/radiation/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University of Michigan - Radiation &amp; Health Physics – http://www.umich.edu/~radinfo/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6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17" name="Freeform 7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19" name="Rectangle 3"/>
          <p:cNvSpPr/>
          <p:nvPr/>
        </p:nvSpPr>
        <p:spPr>
          <a:xfrm>
            <a:off x="495360" y="2073240"/>
            <a:ext cx="8153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US EPA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hat Is Your Annual Radiation Dose? – Calculate your dos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ttp://www.epa.gov/radiation/students/calculate.html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lculate Your Annual Dos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8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22" name="Freeform 9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23" name="Freeform 10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uthorship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066680" y="39625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For Additional Information Contac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teven G. Gilbert, PhD, DAB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-mail: smdose@asmalldoseof.or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Web: www.asmalldoseof.or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09480" y="2009880"/>
            <a:ext cx="78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is presentation is supplement to 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Small Dose of Toxicology”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se Study - Sunbur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1295280"/>
            <a:ext cx="7848720" cy="502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Solar radiation wavelength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Visible light – 400 to 760 nm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Ultraviolet radiation (UV) - &gt;400 nm (sunburn)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nfrared radiation - &lt;760 nm (heat)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UV radiat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Stimulates melanin (dark pigment) that absorbs UV protecting cells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Health Effect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2 to 3 million non-malignant skin cancers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30,000 malignant melanomas 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Sunburn – acute cell injury causing inflammatory response (erythema)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ccelerates aging process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adium Girl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7848720" cy="419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"Not to worry," their bosses told them. "If you swallow any radium, it'll make your cheeks rosy.“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he women at Radium Dial sometimes painted their teeth and faces and then turned off the lights for a laugh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From: 'Radium Girls'  By Martha Irvine, Associated Press, Buffalo News, 1998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5" name="Line 2053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se Study - Radiu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497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898 – Discovered by Marie Curi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900-1930 – Radium Therapy - used to treat arthritis, stomach ailments and cance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Accepted by American Medical Associat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WWI – Use of radium on watch dial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920s – U.S. Radium corporation employed young women to paint watch dial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Late 1920s – Radium girls sue, win an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receive compensat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108" name="Picture 3076" descr="C:\Documents and Settings\steveg\Application Data\Microsoft\Media Catalog\Downloaded Clips\cl5a\j0226450.wmf"/>
          <p:cNvPicPr/>
          <p:nvPr/>
        </p:nvPicPr>
        <p:blipFill>
          <a:blip r:embed="rId1"/>
          <a:stretch/>
        </p:blipFill>
        <p:spPr>
          <a:xfrm>
            <a:off x="0" y="503064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3520" y="1752480"/>
            <a:ext cx="815328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Opium War of 1839-42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Great Britain has a monopoly on the sale of opium which it forces on China.  Eventually getting control of Hong Kong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onsider our societies current “wars on drugs”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8280" y="1206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Life &amp;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6794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ll life is dependent on small doses of electromagnetic radiation.  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For example, photosynthesis and vision use the suns radiation.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8280" y="9036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Radiation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1523880"/>
            <a:ext cx="8382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Nonioniz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Ultraviolet, visible, infrared, microwaves, radio &amp; TV, power transmi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80880" y="3795840"/>
            <a:ext cx="83822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Ioniz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ation capable for producing ions when interacting with matter – x-rays, alpha, beta, gamma, cosmic ray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37:25Z</dcterms:created>
  <dc:creator>Steven G. Gilbert</dc:creator>
  <dc:description/>
  <dc:language>en-US</dc:language>
  <cp:lastModifiedBy>gino-dallarizza</cp:lastModifiedBy>
  <cp:lastPrinted>2000-09-13T16:44:54Z</cp:lastPrinted>
  <dcterms:modified xsi:type="dcterms:W3CDTF">2008-10-23T02:39:11Z</dcterms:modified>
  <cp:revision>164</cp:revision>
  <dc:subject/>
  <dc:title>PowerPoint Presentation</dc:title>
</cp:coreProperties>
</file>